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3C602-59FC-437B-BB3B-90128FAB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A41D1-1BF3-47AC-BA82-DE770BB5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02396-FE88-46B1-967E-D817945E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C83A7-A756-4162-AE8A-90955565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63EA-1832-40BB-837A-9D90C182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B18D-F7E9-43CD-8934-9673F0E2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662B-2B9C-466A-9CFE-12AF3EAD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A8E3-E7DC-4ED3-A384-ED796B17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EDD1-75C5-4733-941B-B84AE6C3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3BD1-9896-44B8-BD1F-5788ADF3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3039-ADF2-4580-A44C-8EA8101E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CD466-BB3A-4F40-83D0-1A8599EF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98D7-15DA-4F88-A781-89CBF908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C2ED-C48C-4549-A6D5-65240477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C43E-37D6-46E2-9D6E-EBDE495A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038D-71D4-4D65-8090-1F4E512E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E6C9-8312-43FF-A893-F6B6644D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5C29A-C9A9-47AB-8D7B-168EE9CF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2E888-823F-44A8-8CBF-10EFD2D3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05900-191F-4D0F-9E3A-D947C825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3C035-6C10-414F-8B2F-6CDD3BC3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3576B-291F-4437-9AB9-C3A95EAB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477CF-77A6-40BD-A491-89AF2464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3166C-62AA-4F76-9188-2F56D670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8D9D-81CB-47C5-80A9-87664BFF99E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6FFB-AE6B-4FDF-A5B1-AD93D2721D9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468360" y="1613880"/>
            <a:ext cx="10080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02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13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ир сладък ли като река ме по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л' скръб кат' вълна ме круши, Христе, Ти ме учиш да казвам смирен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 добре, все добре е за мен!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74536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 добре е за м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 добре, все добре е за м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324000" y="2334240"/>
            <a:ext cx="9720360" cy="31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3900" spc="-1" strike="noStrike">
                <a:solidFill>
                  <a:srgbClr val="ffffff"/>
                </a:solidFill>
                <a:latin typeface="Arial"/>
                <a:ea typeface="Arial"/>
              </a:rPr>
              <a:t>Дали в изкушения, или сред беди–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ен вяра гореща креп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ристос за мен, слабий, бе зверски сразе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кръвта Си проля зарад м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274536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 добре е за м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 добре, все добре е за м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68360" y="2048760"/>
            <a:ext cx="842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рехът ми - о, радост в таз мисъл живей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рехът ми, изцяло отнет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иси там на кръста, с Христа прикова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 живот, радост, мир са за м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280" y="274536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 добре е за м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 добре, все добре е за м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6/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-324000" y="1221840"/>
            <a:ext cx="9720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е, нек' скоро изправен при Теб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з видя лице със лиц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к царството Си управляваш Ти сам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е за мен по-добре ще е та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-добре ще е та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, за мен по-добре ще е там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7/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07-15T16:56:35Z</dcterms:modified>
  <cp:revision>56</cp:revision>
  <dc:subject/>
  <dc:title>Slide 1</dc:title>
</cp:coreProperties>
</file>